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4F1-270C-4F4C-8446-A3E67374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964A-DAB3-47EB-8E9B-DD9D671A6F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9A7-C395-48B2-A2FC-48EF7612BC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A16-1A1C-4E03-A93B-063359647D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983-0B38-4151-B73D-A19A48E09D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3F7-43A7-4DBD-8E9C-0FBBF2111F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3B39-74FB-48B6-B9F7-827FCDBE7C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CB2-39E2-44F7-B09D-A1F141C743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62C-E212-4176-87A5-B2DE7BC705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8458-08C3-48CC-AB1D-2F1D78EA17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B57-252B-44C9-BD10-4261E30D06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A16-D8E9-44A9-9BB7-CB4AED979B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DBD-F6C5-4EE6-815A-C164BA0D15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38B-0B1F-4DDE-874B-38B3D7F704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06E-3DE0-41DB-8876-EB3D9B57DE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4F4-2987-4F79-A92B-9909BEBF97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C8C5-3365-4A62-ABB7-CCDDC25E87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ACC-EED7-4173-AFFF-6F49D2110D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25A-3FE7-45A2-A00B-1563424A1F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CD3C-17FD-4E19-9F8A-FE96E284C3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1E6D-8FE2-4800-8B88-FEE364D31E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C37C-3CC0-456F-99B8-181BD66D80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6C86-3EFA-42C6-882E-CA57A4970C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0CF9-0F72-4293-BF7F-A63B198783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1804-D609-4CEC-B634-DF6D80042D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BAA3-29B0-4B70-90CE-1AA2AC0E55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2EC0-AC2E-43F9-9475-EE5FE526F2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3C3-ADE0-42CD-B3AF-EB31ABD4BA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29FC-286A-4CD0-BEAD-058289B845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E714-CC5D-40C4-ADAB-8BBCB7220C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B2B-ED49-44EA-96F7-5289F169FE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F84-B915-4CFD-8220-D53E4FA727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E44-0C54-4480-8346-76E401C1E8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97C-9615-43A5-BFD9-1E3DA5ED7C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654-65D5-46BB-BEFD-E26BA3F5E3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2B0-CAF5-4486-BCA9-7EDAE88C5F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543-4F7B-48F5-9D7A-BCE9F61AC9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725B-F953-48AE-9CD0-BF7ED2C3E0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5DBF-823F-46BA-B708-02B9178CF6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8BB-74E0-4DDF-8806-62DB4CFD90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7CA-1FC9-4A6C-9A32-55D6703765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DBDC-CA59-4972-B60F-6B9EB281E6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5CA-CFBC-4FAA-91AC-12928D109D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DF7-E10A-4E8A-97B1-3FBD15FF0D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ADC-E49B-4378-9CDD-F33109F9B9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0B9-8A49-4AA1-A872-5A61A44252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00A-F9F5-43EA-BCE9-79CA91C64D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8025-C9E4-4599-A99D-2C941A5FEA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4DD-FD28-4106-A93A-1E71518BA9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74B-2F2F-4F8E-A778-0BDD5DA305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D9C-3F9E-464F-A6D3-9D475D864E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8F23-40F0-4AB7-9974-46B0F37535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250-E35B-4FAF-84D6-3FDAEA55C2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FC1-8A75-460F-9F64-3DDA0439C5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69E-60D4-4C1B-9E40-9C8D7D52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E62-6714-4C1D-8735-ACB86EEC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45E-2FA3-4BED-91D1-17F83D75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6F0-99AB-4C0D-8B58-9C4474B6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AB0-79AD-4000-A156-C6ED4FDB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32F-A2CA-4FB5-8258-9BEA289D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D71-2AE3-4592-96F5-D711C68E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B24-6B28-467E-A21D-E0F8BDF3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C59-7CFE-4095-A094-FF0A771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EE2-C0C6-47CD-B74D-957D1EC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9A6-AC4E-45D4-B7C7-4DB8C68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5BA-2AB3-4FC4-9A54-FE8568B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159-3A0B-424B-8773-7B2F0E9B724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9-11-06T10:04:15Z</dcterms:modified>
  <cp:revision>115</cp:revision>
  <dc:subject/>
  <dc:title>Aims and Objectives</dc:title>
</cp:coreProperties>
</file>